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E91-727E-4E66-B23B-0F767AEA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3AE-D95F-4352-BC48-C057EE2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5EF-9204-4FBD-AB2D-7FC9D71E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1AA-B00F-4819-8CA0-DE1C9F34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6F6-A401-43AA-97DF-1ACD0E24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E5B-EF16-4A2A-9383-15327D9A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D28-2268-4232-9375-587903F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B57-1ADB-4CF9-BC98-6B2C149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A4A-27E8-4617-A330-7B28B55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CC0-B61E-4487-B19F-DB51FF9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0B-E551-4096-B775-8CC7B5E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BFA-81E0-47FC-991B-84E06EB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8626-F063-4DD6-AAAC-C658CD6F2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24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linear inequalities in two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a region defined by linear inequa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inequal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equality uses greater than (&gt;), less than (&lt;), greater than or equal to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≥), and less than or equal to (≤) to compare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 inequality in two variable looks very similar to an equation in two variables, with the equal sign (=) being replaced by one of the signs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raph an ineq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the inequality symbol with an equals symbol to form the equations that is the boundary line of the solution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 the boundary line.   Use a dashed line for &lt; or &gt;, use a solid line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 or ≥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ose any convenient test point that is not on the boundary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the test point is true, shade that half plane; if it is false, shade the other half pl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2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2y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2y=4-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1/2x 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point (0,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2(0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1219320"/>
          <a:ext cx="286848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19320"/>
                    <a:ext cx="28684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324480" y="3886200"/>
          <a:ext cx="264636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886200"/>
                    <a:ext cx="26463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+4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 ≥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 ≥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905120"/>
          <a:ext cx="30178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017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4:24:56Z</dcterms:created>
  <dc:creator>nuhs</dc:creator>
  <dc:description/>
  <dc:language>en-US</dc:language>
  <cp:lastModifiedBy>nuhs</cp:lastModifiedBy>
  <dcterms:modified xsi:type="dcterms:W3CDTF">2007-10-24T20:41:08Z</dcterms:modified>
  <cp:revision>8</cp:revision>
  <dc:subject/>
  <dc:title>Algebra 2A</dc:title>
</cp:coreProperties>
</file>